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7.wmf" ContentType="image/x-wmf"/>
  <Override PartName="/ppt/media/image9.wmf" ContentType="image/x-wmf"/>
  <Override PartName="/ppt/media/image8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0.png" ContentType="image/png"/>
  <Override PartName="/ppt/media/image28.wmf" ContentType="image/x-wmf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447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09520" y="9447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3060-C7BF-4A22-BF52-7AD3A932B1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09880" y="9447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D47C-6377-42CE-9AE9-3562BE7219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7880" y="4706640"/>
            <a:ext cx="542592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270-34F5-4FA8-B7E8-E34B7274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BA1-74F9-460B-9C17-68DBB48F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BA6-E526-4ABE-86CB-6248A95C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BE0-6050-46E1-917C-05FC41BE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826-9826-49A6-9653-E9D951EE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601-F8D9-4360-AF7D-91F486A7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A86-D8F4-40C1-BBD7-D2F8216C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CAB-CA63-4215-A181-0AD99D2B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34F-FE7B-4A0B-BE44-0873F2FD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A52-E31C-4242-B7BE-106CADEB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2FF-C982-45B7-9E70-F1FD4B3C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597-F055-411A-8D8E-E4D4C8B5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55F8-8ABD-44E0-ACF3-FDDDC1B89B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slide body dark_lo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2"/>
          <p:cNvSpPr/>
          <p:nvPr/>
        </p:nvSpPr>
        <p:spPr>
          <a:xfrm>
            <a:off x="4998960" y="3208320"/>
            <a:ext cx="4971960" cy="4249800"/>
          </a:xfrm>
          <a:custGeom>
            <a:avLst/>
            <a:gdLst>
              <a:gd name="textAreaLeft" fmla="*/ 0 w 4971960"/>
              <a:gd name="textAreaRight" fmla="*/ 4972320 w 4971960"/>
              <a:gd name="textAreaTop" fmla="*/ 0 h 4249800"/>
              <a:gd name="textAreaBottom" fmla="*/ 4250160 h 4249800"/>
            </a:gdLst>
            <a:ahLst/>
            <a:rect l="textAreaLeft" t="textAreaTop" r="textAreaRight" b="textAreaBottom"/>
            <a:pathLst>
              <a:path w="3132" h="2677">
                <a:moveTo>
                  <a:pt x="2657" y="50"/>
                </a:moveTo>
                <a:cubicBezTo>
                  <a:pt x="2634" y="296"/>
                  <a:pt x="2612" y="543"/>
                  <a:pt x="2553" y="741"/>
                </a:cubicBezTo>
                <a:cubicBezTo>
                  <a:pt x="2494" y="939"/>
                  <a:pt x="2396" y="1101"/>
                  <a:pt x="2306" y="1240"/>
                </a:cubicBezTo>
                <a:cubicBezTo>
                  <a:pt x="2216" y="1379"/>
                  <a:pt x="2112" y="1480"/>
                  <a:pt x="2010" y="1575"/>
                </a:cubicBezTo>
                <a:cubicBezTo>
                  <a:pt x="1908" y="1670"/>
                  <a:pt x="1789" y="1751"/>
                  <a:pt x="1697" y="1810"/>
                </a:cubicBezTo>
                <a:cubicBezTo>
                  <a:pt x="1605" y="1869"/>
                  <a:pt x="1548" y="1894"/>
                  <a:pt x="1456" y="1931"/>
                </a:cubicBezTo>
                <a:cubicBezTo>
                  <a:pt x="1364" y="1968"/>
                  <a:pt x="1253" y="2009"/>
                  <a:pt x="1143" y="2035"/>
                </a:cubicBezTo>
                <a:cubicBezTo>
                  <a:pt x="1033" y="2061"/>
                  <a:pt x="920" y="2076"/>
                  <a:pt x="797" y="2090"/>
                </a:cubicBezTo>
                <a:cubicBezTo>
                  <a:pt x="674" y="2104"/>
                  <a:pt x="470" y="2103"/>
                  <a:pt x="402" y="2118"/>
                </a:cubicBezTo>
                <a:cubicBezTo>
                  <a:pt x="334" y="2133"/>
                  <a:pt x="0" y="2151"/>
                  <a:pt x="391" y="2183"/>
                </a:cubicBezTo>
                <a:cubicBezTo>
                  <a:pt x="782" y="2215"/>
                  <a:pt x="2364" y="2677"/>
                  <a:pt x="2748" y="2313"/>
                </a:cubicBezTo>
                <a:cubicBezTo>
                  <a:pt x="3132" y="1949"/>
                  <a:pt x="2706" y="482"/>
                  <a:pt x="2695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942320" y="0"/>
            <a:ext cx="1201680" cy="182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90440"/>
            <a:ext cx="9144000" cy="2658960"/>
          </a:xfrm>
          <a:prstGeom prst="rect">
            <a:avLst/>
          </a:prstGeom>
          <a:solidFill>
            <a:srgbClr val="008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0" y="28018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Presentation to the ICAO IVATF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Montr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é</a:t>
            </a: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al, 27</a:t>
            </a:r>
            <a:r>
              <a:rPr b="1" lang="en-GB" sz="24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 – 30</a:t>
            </a:r>
            <a:r>
              <a:rPr b="1" lang="en-GB" sz="24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 July 2010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Trebuchet MS"/>
              </a:rPr>
              <a:t>EUROCONTROL/CFMU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Trebuchet MS"/>
              </a:rPr>
              <a:t>VOLCANIC ASH CRISIS REPORT</a:t>
            </a: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2600" y="6548400"/>
            <a:ext cx="321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Narrow"/>
              </a:rPr>
              <a:t>European Organisation for the Safety of Air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LOGO2"/>
          <p:cNvPicPr/>
          <p:nvPr/>
        </p:nvPicPr>
        <p:blipFill>
          <a:blip r:embed="rId1"/>
          <a:stretch/>
        </p:blipFill>
        <p:spPr>
          <a:xfrm>
            <a:off x="7924680" y="6114960"/>
            <a:ext cx="695520" cy="695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"/>
          <p:cNvSpPr/>
          <p:nvPr/>
        </p:nvSpPr>
        <p:spPr>
          <a:xfrm>
            <a:off x="9150480" y="12600"/>
            <a:ext cx="183960" cy="6926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6858000"/>
            <a:ext cx="9387000" cy="32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0" y="6902280"/>
            <a:ext cx="9387000" cy="519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9188280" y="-152280"/>
            <a:ext cx="879480" cy="739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755640" y="2997360"/>
            <a:ext cx="813420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Žarko SIVČEV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EUROCONTROL/CFMU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etwork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0" y="84240"/>
            <a:ext cx="8769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Impact on Aircraft Operators (traffic)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 15 April – 21 Apr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334800" y="936720"/>
            <a:ext cx="6840720" cy="4201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08000" y="5157720"/>
            <a:ext cx="845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In the area directly affected by the ash – average reduction of 6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Outside affected areas - average reduction of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everal airlines lost more than 80% of foreseen traf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36360" y="3068280"/>
            <a:ext cx="7380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71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rebuchet MS"/>
              </a:rPr>
              <a:t>2. European Coordinati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338040"/>
            <a:ext cx="896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UNLOCKING THE CRISIS: 19</a:t>
            </a:r>
            <a:r>
              <a:rPr b="1" lang="en-GB" sz="32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 AP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28440" y="1639800"/>
            <a:ext cx="91440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Close coordination – EC &amp; EUROCONTRO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1071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EC – political leadership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1071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EUROCONTROL – network management experti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EUROCONTROL proposes three op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Teleconference of the EUROCONTROL Provisional Council (AM) &amp; EU Council of Ministers (PM) – </a:t>
            </a:r>
            <a:r>
              <a:rPr b="1" lang="en-GB" sz="3200" spc="-1" strike="noStrike">
                <a:solidFill>
                  <a:srgbClr val="ff9933"/>
                </a:solidFill>
                <a:latin typeface="Trebuchet MS"/>
              </a:rPr>
              <a:t>option 3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71280" y="338040"/>
            <a:ext cx="896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Unlocking the crisis: 19</a:t>
            </a:r>
            <a:r>
              <a:rPr b="1" lang="en-GB" sz="36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 Apr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4211640" y="907920"/>
          <a:ext cx="125712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907920"/>
                    <a:ext cx="12571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6"/>
          <p:cNvGraphicFramePr/>
          <p:nvPr/>
        </p:nvGraphicFramePr>
        <p:xfrm>
          <a:off x="6659640" y="907920"/>
          <a:ext cx="91116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907920"/>
                    <a:ext cx="911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934920" y="0"/>
            <a:ext cx="4716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rebuchet MS"/>
              </a:rPr>
              <a:t>OPTION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VAAC_buffer"/>
          <p:cNvPicPr/>
          <p:nvPr/>
        </p:nvPicPr>
        <p:blipFill>
          <a:blip r:embed="rId1"/>
          <a:stretch/>
        </p:blipFill>
        <p:spPr>
          <a:xfrm>
            <a:off x="34920" y="981000"/>
            <a:ext cx="5486400" cy="670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yellowzone"/>
          <p:cNvPicPr/>
          <p:nvPr/>
        </p:nvPicPr>
        <p:blipFill>
          <a:blip r:embed="rId2"/>
          <a:stretch/>
        </p:blipFill>
        <p:spPr>
          <a:xfrm>
            <a:off x="3727440" y="2347920"/>
            <a:ext cx="4575240" cy="4514760"/>
          </a:xfrm>
          <a:prstGeom prst="rect">
            <a:avLst/>
          </a:prstGeom>
          <a:ln w="0">
            <a:noFill/>
          </a:ln>
        </p:spPr>
      </p:pic>
      <p:sp>
        <p:nvSpPr>
          <p:cNvPr id="99" name="Oval 9"/>
          <p:cNvSpPr/>
          <p:nvPr/>
        </p:nvSpPr>
        <p:spPr>
          <a:xfrm>
            <a:off x="3959280" y="476280"/>
            <a:ext cx="5184720" cy="165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- NO FLY ZONE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- Contaminated Zone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rebuchet MS"/>
              </a:rPr>
              <a:t>- Ash Free Z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7020000" y="2276640"/>
            <a:ext cx="1908000" cy="1079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Buffer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60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1692360" y="3284640"/>
            <a:ext cx="3457440" cy="18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rebuchet MS"/>
              </a:rPr>
              <a:t>States 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Trebuchet MS"/>
              </a:rPr>
              <a:t>to decide on 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Trebuchet MS"/>
              </a:rPr>
              <a:t>NO FLY Z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33336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NEW ROLE FOR EUROCONTROL/CFM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8000" y="1701720"/>
            <a:ext cx="9036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Early warning – issue information on volcanic ash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On request of national ATC providers : CFMU applies meas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Facilitate information exchange –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telecon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11240" y="508464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Trebuchet MS"/>
              </a:rPr>
              <a:t>Publish charts to assist states in deciding on NO FL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0" y="333360"/>
            <a:ext cx="9144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EUROCONTROL - NO FLY ZONE Proposal – April 20</a:t>
            </a:r>
            <a:r>
              <a:rPr b="1" lang="en-GB" sz="26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 – 28</a:t>
            </a:r>
            <a:r>
              <a:rPr b="1" lang="en-GB" sz="26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3068280"/>
            <a:ext cx="799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rebuchet MS"/>
              </a:rPr>
              <a:t>3.     3</a:t>
            </a:r>
            <a:r>
              <a:rPr b="1" lang="en-GB" sz="4800" spc="-1" strike="noStrike" baseline="30000">
                <a:solidFill>
                  <a:srgbClr val="ffffff"/>
                </a:solidFill>
                <a:latin typeface="Trebuchet MS"/>
              </a:rPr>
              <a:t>rd</a:t>
            </a:r>
            <a:r>
              <a:rPr b="1" lang="en-GB" sz="4800" spc="-1" strike="noStrike">
                <a:solidFill>
                  <a:srgbClr val="ffffff"/>
                </a:solidFill>
                <a:latin typeface="Trebuchet MS"/>
              </a:rPr>
              <a:t> May to 23</a:t>
            </a:r>
            <a:r>
              <a:rPr b="1" lang="en-GB" sz="4800" spc="-1" strike="noStrike" baseline="30000">
                <a:solidFill>
                  <a:srgbClr val="ffffff"/>
                </a:solidFill>
                <a:latin typeface="Trebuchet MS"/>
              </a:rPr>
              <a:t>rd</a:t>
            </a:r>
            <a:r>
              <a:rPr b="1" lang="en-GB" sz="4800" spc="-1" strike="noStrike">
                <a:solidFill>
                  <a:srgbClr val="ffffff"/>
                </a:solidFill>
                <a:latin typeface="Trebuchet MS"/>
              </a:rPr>
              <a:t> May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333360"/>
            <a:ext cx="9144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Trebuchet MS"/>
              </a:rPr>
              <a:t>NO ASH IN EUROCONTROL ZONE – April 28</a:t>
            </a:r>
            <a:r>
              <a:rPr b="1" lang="en-GB" sz="25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2500" spc="-1" strike="noStrike">
                <a:solidFill>
                  <a:srgbClr val="ffffff"/>
                </a:solidFill>
                <a:latin typeface="Trebuchet MS"/>
              </a:rPr>
              <a:t> – May 3</a:t>
            </a:r>
            <a:r>
              <a:rPr b="1" lang="en-GB" sz="2500" spc="-1" strike="noStrike" baseline="30000">
                <a:solidFill>
                  <a:srgbClr val="ffffff"/>
                </a:solidFill>
                <a:latin typeface="Trebuchet MS"/>
              </a:rPr>
              <a:t>rd</a:t>
            </a:r>
            <a:r>
              <a:rPr b="1" lang="en-GB" sz="25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GB" sz="2500" spc="-1" strike="noStrike">
                <a:solidFill>
                  <a:srgbClr val="ff9933"/>
                </a:solidFill>
                <a:latin typeface="Trebuchet MS"/>
              </a:rPr>
              <a:t>BUT…</a:t>
            </a:r>
            <a:r>
              <a:rPr b="1" lang="en-GB" sz="25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370160"/>
            <a:ext cx="9144000" cy="55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osures in UK and Ireland, then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ortugal, Spain, Italy, Morocc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May – UK CAA/Met Office remove the 60NM buffer following a safety assessment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States retain prerogative to add the 60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buff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May - UK CAA/Met Office issue a new CHART: black, grey, r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May – </a:t>
            </a:r>
            <a:r>
              <a:rPr b="1" lang="en-US" sz="2600" spc="-1" strike="noStrike">
                <a:solidFill>
                  <a:srgbClr val="ff9933"/>
                </a:solidFill>
                <a:latin typeface="Arial"/>
              </a:rPr>
              <a:t>EASA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issue a Safety Information Bulleti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19080" indent="-380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NO FLY ZONE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9080" indent="-380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ENHANCED PROCEDURES ZONE: GREY AND RED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9080" indent="-380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NORMAL ZON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44460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3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rebuchet MS"/>
              </a:rPr>
              <a:t>rd</a:t>
            </a: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 May – Volcanic ash procedures restarte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444600"/>
            <a:ext cx="8964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NEW VAAC LONDON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VAAC first black, grey, red chart"/>
          <p:cNvPicPr/>
          <p:nvPr/>
        </p:nvPicPr>
        <p:blipFill>
          <a:blip r:embed="rId1"/>
          <a:stretch/>
        </p:blipFill>
        <p:spPr>
          <a:xfrm>
            <a:off x="755640" y="1268280"/>
            <a:ext cx="7632720" cy="72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0" y="411120"/>
            <a:ext cx="9144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EUROCONTROL CHARTS – May 3</a:t>
            </a:r>
            <a:r>
              <a:rPr b="1" lang="en-GB" sz="3600" spc="-1" strike="noStrike" baseline="30000">
                <a:solidFill>
                  <a:srgbClr val="ffffff"/>
                </a:solidFill>
                <a:latin typeface="Trebuchet MS"/>
              </a:rPr>
              <a:t>rd</a:t>
            </a: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 – 23</a:t>
            </a:r>
            <a:r>
              <a:rPr b="1" lang="en-GB" sz="3600" spc="-1" strike="noStrike" baseline="30000">
                <a:solidFill>
                  <a:srgbClr val="ffffff"/>
                </a:solidFill>
                <a:latin typeface="Trebuchet MS"/>
              </a:rPr>
              <a:t>rd</a:t>
            </a: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ECTL chart 3May"/>
          <p:cNvPicPr/>
          <p:nvPr/>
        </p:nvPicPr>
        <p:blipFill>
          <a:blip r:embed="rId1"/>
          <a:stretch/>
        </p:blipFill>
        <p:spPr>
          <a:xfrm>
            <a:off x="0" y="127476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000" y="2131920"/>
            <a:ext cx="84596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14</a:t>
            </a:r>
            <a:r>
              <a:rPr b="1" lang="en-GB" sz="32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 April – 28</a:t>
            </a:r>
            <a:r>
              <a:rPr b="1" lang="en-GB" sz="32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 Apri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European coordination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3</a:t>
            </a:r>
            <a:r>
              <a:rPr b="1" lang="en-GB" sz="3200" spc="-1" strike="noStrike" baseline="30000">
                <a:solidFill>
                  <a:srgbClr val="ffffff"/>
                </a:solidFill>
                <a:latin typeface="Trebuchet MS"/>
              </a:rPr>
              <a:t>rd</a:t>
            </a: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 May to 23</a:t>
            </a:r>
            <a:r>
              <a:rPr b="1" lang="en-GB" sz="3200" spc="-1" strike="noStrike" baseline="30000">
                <a:solidFill>
                  <a:srgbClr val="ffffff"/>
                </a:solidFill>
                <a:latin typeface="Trebuchet MS"/>
              </a:rPr>
              <a:t>rd</a:t>
            </a: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 Ma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Volcanic ash – solutions sou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What if an eruption starts tomorrow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44460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It all started on 14</a:t>
            </a:r>
            <a:r>
              <a:rPr b="1" lang="en-GB" sz="36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 April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3068280"/>
            <a:ext cx="8353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rebuchet MS"/>
              </a:rPr>
              <a:t>4.  Volcanic ash – solutions sough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0" y="44460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684360" y="1484280"/>
            <a:ext cx="1403280" cy="911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A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979640" y="2492280"/>
            <a:ext cx="2232000" cy="719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Trebuchet MS"/>
              </a:rPr>
              <a:t>AN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3635280" y="1628640"/>
            <a:ext cx="3529080" cy="720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Trebuchet MS"/>
              </a:rPr>
              <a:t>Regul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250920" y="3357720"/>
            <a:ext cx="2089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CFM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9"/>
          <p:cNvGraphicFramePr/>
          <p:nvPr/>
        </p:nvGraphicFramePr>
        <p:xfrm>
          <a:off x="5867280" y="4535640"/>
          <a:ext cx="295272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35640"/>
                    <a:ext cx="295272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Oval 10"/>
          <p:cNvSpPr/>
          <p:nvPr/>
        </p:nvSpPr>
        <p:spPr>
          <a:xfrm>
            <a:off x="2771640" y="3500280"/>
            <a:ext cx="2232000" cy="100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rebuchet MS"/>
              </a:rPr>
              <a:t>VAA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4788000" y="2637000"/>
            <a:ext cx="122400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129360" y="3866760"/>
            <a:ext cx="2484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9933"/>
                </a:solidFill>
                <a:latin typeface="Arial"/>
              </a:rPr>
              <a:t>IVAT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0" y="992160"/>
          <a:ext cx="6948360" cy="58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2160"/>
                    <a:ext cx="6948360" cy="58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Line 3"/>
          <p:cNvSpPr/>
          <p:nvPr/>
        </p:nvSpPr>
        <p:spPr>
          <a:xfrm flipH="1">
            <a:off x="5470560" y="2349360"/>
            <a:ext cx="2951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"/>
          <p:cNvSpPr/>
          <p:nvPr/>
        </p:nvSpPr>
        <p:spPr>
          <a:xfrm flipH="1">
            <a:off x="5435640" y="2968560"/>
            <a:ext cx="2951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5505480" y="4235400"/>
            <a:ext cx="2951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6372000" y="5084640"/>
            <a:ext cx="1655640" cy="216000"/>
          </a:xfrm>
          <a:prstGeom prst="line">
            <a:avLst/>
          </a:prstGeom>
          <a:ln w="1015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44360" y="246240"/>
            <a:ext cx="88203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rebuchet MS"/>
              </a:rPr>
              <a:t>Lessons learned - A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-252360" y="0"/>
            <a:ext cx="93963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CFMU Network Operations Portal (NOP)</a:t>
            </a: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rebuchet MS"/>
              </a:rPr>
              <a:t>https://www.cfmu.eurocontrol.int/PUBPORTAL/gateway/spec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NOP"/>
          <p:cNvPicPr/>
          <p:nvPr/>
        </p:nvPicPr>
        <p:blipFill>
          <a:blip r:embed="rId1"/>
          <a:stretch/>
        </p:blipFill>
        <p:spPr>
          <a:xfrm>
            <a:off x="-3240" y="1125360"/>
            <a:ext cx="6612120" cy="5851800"/>
          </a:xfrm>
          <a:prstGeom prst="rect">
            <a:avLst/>
          </a:prstGeom>
          <a:ln w="0">
            <a:noFill/>
          </a:ln>
        </p:spPr>
      </p:pic>
      <p:sp>
        <p:nvSpPr>
          <p:cNvPr id="135" name="Oval 4"/>
          <p:cNvSpPr/>
          <p:nvPr/>
        </p:nvSpPr>
        <p:spPr>
          <a:xfrm>
            <a:off x="5148360" y="3933720"/>
            <a:ext cx="39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13.5 million hit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n one da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4560" y="1606680"/>
            <a:ext cx="910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, EUROCONTROL, EASA working togeth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UROCONTROL/CFMU facilitated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190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ormation sharing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90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n-European coordination an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90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lementation of appropriate network solutions (as foreseen for the future European Network Manag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 &amp; EUROCONTROL created a </a:t>
            </a: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European Aviation Crisis Coordination Ce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(EACCC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4500720" y="1268280"/>
          <a:ext cx="423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268280"/>
                    <a:ext cx="423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250920" y="1268280"/>
          <a:ext cx="12571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268280"/>
                    <a:ext cx="12571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2343240" y="1268280"/>
            <a:ext cx="911160" cy="8384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1979640" y="333360"/>
            <a:ext cx="58658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Trebuchet MS"/>
              </a:rPr>
              <a:t>Lessons learnt</a:t>
            </a:r>
            <a:r>
              <a:rPr b="1" lang="en-GB" sz="3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1" lang="en-GB" sz="3400" spc="-1" strike="noStrike">
                <a:solidFill>
                  <a:srgbClr val="ff0000"/>
                </a:solidFill>
                <a:latin typeface="Trebuchet MS"/>
              </a:rPr>
              <a:t> Cri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European Aviation Crisis Coordination Cell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8f8f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Trebuchet MS"/>
              </a:rPr>
              <a:t>Main role: to facilitate the management of crisis situations affecting aviation in the European (ECAC) reg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49"/>
              </a:spcBef>
              <a:buClr>
                <a:srgbClr val="f8f8f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Trebuchet MS"/>
              </a:rPr>
              <a:t>Activated when circumstances beyond the normal environment of operations are evid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49"/>
              </a:spcBef>
              <a:buClr>
                <a:srgbClr val="f8f8f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Trebuchet MS"/>
              </a:rPr>
              <a:t>Responsibiliti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f8f8f8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rebuchet MS"/>
              </a:rPr>
              <a:t>alert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f8f8f8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rebuchet MS"/>
              </a:rPr>
              <a:t>take initiatives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f8f8f8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rebuchet MS"/>
              </a:rPr>
              <a:t>propose measures to manage the crisis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f8f8f8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rebuchet MS"/>
              </a:rPr>
              <a:t>coordinate the implementation of these measures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f8f8f8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rebuchet MS"/>
              </a:rPr>
              <a:t>ensure that an external communication policy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Trebuchet MS"/>
              </a:rPr>
              <a:t>is properly execut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716360" y="3573360"/>
            <a:ext cx="4897440" cy="172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rebuchet MS"/>
              </a:rPr>
              <a:t>EC &amp; EUROCONTROL</a:t>
            </a:r>
            <a:br>
              <a:rPr sz="2400"/>
            </a:br>
            <a:r>
              <a:rPr b="1" lang="en-GB" sz="2400" spc="-1" strike="noStrike">
                <a:solidFill>
                  <a:srgbClr val="cc0066"/>
                </a:solidFill>
                <a:latin typeface="Trebuchet MS"/>
              </a:rPr>
              <a:t>EASA, AO, ANSP, Air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rebuchet MS"/>
              </a:rPr>
              <a:t>ICAO, regulators &amp; 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rebuchet MS"/>
              </a:rPr>
              <a:t>Military, acft manuf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2" descr="1"/>
          <p:cNvPicPr/>
          <p:nvPr/>
        </p:nvPicPr>
        <p:blipFill>
          <a:blip r:embed="rId1"/>
          <a:stretch/>
        </p:blipFill>
        <p:spPr>
          <a:xfrm>
            <a:off x="1422360" y="4229280"/>
            <a:ext cx="2943360" cy="2628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2"/>
          <p:cNvPicPr/>
          <p:nvPr/>
        </p:nvPicPr>
        <p:blipFill>
          <a:blip r:embed="rId2"/>
          <a:stretch/>
        </p:blipFill>
        <p:spPr>
          <a:xfrm>
            <a:off x="1258920" y="1711440"/>
            <a:ext cx="2657520" cy="317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3"/>
          <p:cNvPicPr/>
          <p:nvPr/>
        </p:nvPicPr>
        <p:blipFill>
          <a:blip r:embed="rId3"/>
          <a:stretch/>
        </p:blipFill>
        <p:spPr>
          <a:xfrm>
            <a:off x="2556000" y="1158840"/>
            <a:ext cx="3611520" cy="2298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4"/>
          <p:cNvPicPr/>
          <p:nvPr/>
        </p:nvPicPr>
        <p:blipFill>
          <a:blip r:embed="rId4"/>
          <a:stretch/>
        </p:blipFill>
        <p:spPr>
          <a:xfrm>
            <a:off x="4805280" y="1722600"/>
            <a:ext cx="2646360" cy="316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5"/>
          <p:cNvPicPr/>
          <p:nvPr/>
        </p:nvPicPr>
        <p:blipFill>
          <a:blip r:embed="rId5"/>
          <a:stretch/>
        </p:blipFill>
        <p:spPr>
          <a:xfrm>
            <a:off x="4359240" y="4216320"/>
            <a:ext cx="2932200" cy="2641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7"/>
          <p:cNvSpPr/>
          <p:nvPr/>
        </p:nvSpPr>
        <p:spPr>
          <a:xfrm>
            <a:off x="3238560" y="1704960"/>
            <a:ext cx="233352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Arial"/>
              </a:rPr>
              <a:t>ATM or airworthi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5064120" y="2916360"/>
            <a:ext cx="2309760" cy="12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Arial"/>
              </a:rPr>
              <a:t>Harmonised approach in st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4530600" y="4975200"/>
            <a:ext cx="226080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Arial"/>
              </a:rPr>
              <a:t>Thresho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2168640" y="4975200"/>
            <a:ext cx="183816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cc00"/>
                </a:solidFill>
                <a:latin typeface="Arial"/>
              </a:rPr>
              <a:t>Dispersion model valid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1351080" y="3319560"/>
            <a:ext cx="224316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cc00"/>
                </a:solidFill>
                <a:latin typeface="Arial"/>
              </a:rPr>
              <a:t>Enhanced information ex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3659040" y="3712320"/>
            <a:ext cx="1403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VA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0" y="333360"/>
            <a:ext cx="9144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rebuchet MS"/>
              </a:rPr>
              <a:t>Volcanic  ash – solutions sough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560" y="2923920"/>
            <a:ext cx="8893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5. What if an eruption starts tomorrow?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3419640" y="3933720"/>
            <a:ext cx="388908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Trebuchet MS"/>
              </a:rPr>
              <a:t>Contingency</a:t>
            </a:r>
            <a:r>
              <a:rPr b="1" lang="en-GB" sz="3200" spc="-1" strike="noStrike">
                <a:solidFill>
                  <a:srgbClr val="cc006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or </a:t>
            </a:r>
            <a:r>
              <a:rPr b="1" lang="en-GB" sz="3200" spc="-1" strike="noStrike">
                <a:solidFill>
                  <a:srgbClr val="ff0000"/>
                </a:solidFill>
                <a:latin typeface="Trebuchet MS"/>
              </a:rPr>
              <a:t>crisis </a:t>
            </a: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4"/>
          <p:cNvGraphicFramePr/>
          <p:nvPr/>
        </p:nvGraphicFramePr>
        <p:xfrm>
          <a:off x="-1231920" y="-88920"/>
          <a:ext cx="11275920" cy="748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31920" y="-88920"/>
                    <a:ext cx="112759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6"/>
          <p:cNvSpPr/>
          <p:nvPr/>
        </p:nvSpPr>
        <p:spPr>
          <a:xfrm>
            <a:off x="0" y="47628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rebuchet MS"/>
              </a:rPr>
              <a:t>Alert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: Icelandic MWO </a:t>
            </a:r>
            <a:r>
              <a:rPr b="1" lang="en-GB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 VAAC </a:t>
            </a:r>
            <a:r>
              <a:rPr b="1" lang="en-GB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 CFMU </a:t>
            </a:r>
            <a:r>
              <a:rPr b="1" lang="en-GB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 Crisis Ce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8"/>
          <p:cNvSpPr/>
          <p:nvPr/>
        </p:nvSpPr>
        <p:spPr>
          <a:xfrm flipV="1">
            <a:off x="4896000" y="1234800"/>
            <a:ext cx="504720" cy="1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4896000" y="1379520"/>
            <a:ext cx="504720" cy="14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2"/>
          <p:cNvSpPr/>
          <p:nvPr/>
        </p:nvSpPr>
        <p:spPr>
          <a:xfrm>
            <a:off x="5397480" y="947880"/>
            <a:ext cx="3168720" cy="43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MWO/SIG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3"/>
          <p:cNvSpPr/>
          <p:nvPr/>
        </p:nvSpPr>
        <p:spPr>
          <a:xfrm>
            <a:off x="5397480" y="1379520"/>
            <a:ext cx="3168720" cy="433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NOF/NO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7236000" y="1944720"/>
            <a:ext cx="1603080" cy="1008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Trebuchet MS"/>
              </a:rPr>
              <a:t>NOP</a:t>
            </a:r>
            <a:br>
              <a:rPr sz="2800"/>
            </a:br>
            <a:r>
              <a:rPr b="1" lang="en-GB" sz="2800" spc="-1" strike="noStrike">
                <a:solidFill>
                  <a:srgbClr val="ffcc00"/>
                </a:solidFill>
                <a:latin typeface="Trebuchet MS"/>
              </a:rPr>
              <a:t>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3613320" y="1218960"/>
            <a:ext cx="504720" cy="1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613320" y="1363680"/>
            <a:ext cx="504720" cy="14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7"/>
          <p:cNvSpPr/>
          <p:nvPr/>
        </p:nvSpPr>
        <p:spPr>
          <a:xfrm>
            <a:off x="4106880" y="934920"/>
            <a:ext cx="865080" cy="433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rebuchet MS"/>
              </a:rPr>
              <a:t>V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048200" y="1365120"/>
            <a:ext cx="1081080" cy="576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rebuchet MS"/>
              </a:rPr>
              <a:t>Ash</a:t>
            </a:r>
            <a:br>
              <a:rPr sz="2400"/>
            </a:br>
            <a:r>
              <a:rPr b="1" lang="en-GB" sz="2400" spc="-1" strike="noStrike">
                <a:solidFill>
                  <a:srgbClr val="cc0066"/>
                </a:solidFill>
                <a:latin typeface="Trebuchet MS"/>
              </a:rPr>
              <a:t>co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21"/>
          <p:cNvSpPr/>
          <p:nvPr/>
        </p:nvSpPr>
        <p:spPr>
          <a:xfrm>
            <a:off x="684360" y="4253040"/>
            <a:ext cx="1763640" cy="1222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rebuchet MS"/>
              </a:rPr>
              <a:t>Danger Areas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Trebuchet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4"/>
          <p:cNvSpPr/>
          <p:nvPr/>
        </p:nvSpPr>
        <p:spPr>
          <a:xfrm flipH="1">
            <a:off x="5002920" y="4108320"/>
            <a:ext cx="793800" cy="1513080"/>
          </a:xfrm>
          <a:prstGeom prst="rect">
            <a:avLst/>
          </a:prstGeom>
          <a:solidFill>
            <a:srgbClr val="cc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6"/>
          <p:cNvSpPr/>
          <p:nvPr/>
        </p:nvSpPr>
        <p:spPr>
          <a:xfrm flipH="1">
            <a:off x="4140360" y="4108320"/>
            <a:ext cx="793440" cy="1513080"/>
          </a:xfrm>
          <a:prstGeom prst="rect">
            <a:avLst/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7"/>
          <p:cNvSpPr/>
          <p:nvPr/>
        </p:nvSpPr>
        <p:spPr>
          <a:xfrm rot="5400000">
            <a:off x="3475080" y="353376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8"/>
          <p:cNvSpPr/>
          <p:nvPr/>
        </p:nvSpPr>
        <p:spPr>
          <a:xfrm rot="16200000">
            <a:off x="3923640" y="4901400"/>
            <a:ext cx="288720" cy="1728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3425760" y="5999040"/>
            <a:ext cx="1297080" cy="67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Stat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2916360" y="3102120"/>
            <a:ext cx="1296720" cy="67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Stat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31"/>
          <p:cNvSpPr/>
          <p:nvPr/>
        </p:nvSpPr>
        <p:spPr>
          <a:xfrm>
            <a:off x="4427640" y="3244680"/>
            <a:ext cx="1296720" cy="67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Stat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C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3"/>
          <p:cNvSpPr/>
          <p:nvPr/>
        </p:nvSpPr>
        <p:spPr>
          <a:xfrm>
            <a:off x="9360" y="2544840"/>
            <a:ext cx="9144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Trebuchet MS"/>
              </a:rPr>
              <a:t>Information exchange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: telecon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4"/>
          <p:cNvSpPr/>
          <p:nvPr/>
        </p:nvSpPr>
        <p:spPr>
          <a:xfrm>
            <a:off x="-1440" y="1203480"/>
            <a:ext cx="914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cc00"/>
                </a:solidFill>
                <a:latin typeface="Trebuchet MS"/>
              </a:rPr>
              <a:t>Information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: VAA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360" y="191772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9933"/>
                </a:solidFill>
                <a:latin typeface="Trebuchet MS"/>
              </a:rPr>
              <a:t>Measures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: States </a:t>
            </a:r>
            <a:r>
              <a:rPr b="1" lang="en-GB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 CFM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7"/>
          <p:cNvSpPr/>
          <p:nvPr/>
        </p:nvSpPr>
        <p:spPr>
          <a:xfrm flipV="1">
            <a:off x="2195640" y="3676680"/>
            <a:ext cx="86364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8"/>
          <p:cNvSpPr/>
          <p:nvPr/>
        </p:nvSpPr>
        <p:spPr>
          <a:xfrm>
            <a:off x="2268360" y="5261040"/>
            <a:ext cx="122400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9"/>
          <p:cNvSpPr/>
          <p:nvPr/>
        </p:nvSpPr>
        <p:spPr>
          <a:xfrm flipV="1">
            <a:off x="2411280" y="3894120"/>
            <a:ext cx="2232000" cy="790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3"/>
          <p:cNvSpPr/>
          <p:nvPr/>
        </p:nvSpPr>
        <p:spPr>
          <a:xfrm flipH="1">
            <a:off x="3202920" y="4110120"/>
            <a:ext cx="793800" cy="1512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43"/>
          <p:cNvSpPr/>
          <p:nvPr/>
        </p:nvSpPr>
        <p:spPr>
          <a:xfrm>
            <a:off x="6084720" y="3645000"/>
            <a:ext cx="309564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Harmonised approa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8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68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18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68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68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44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VolcanicAsh_14to21April.avi" descr=""/>
          <p:cNvPicPr/>
          <p:nvPr/>
        </p:nvPicPr>
        <p:blipFill>
          <a:blip r:embed="rId1"/>
          <a:stretch/>
        </p:blipFill>
        <p:spPr>
          <a:xfrm>
            <a:off x="582480" y="1004760"/>
            <a:ext cx="8018640" cy="575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Picture 3" descr=""/>
          <p:cNvPicPr/>
          <p:nvPr/>
        </p:nvPicPr>
        <p:blipFill>
          <a:blip r:embed="rId2"/>
          <a:srcRect l="0" t="0" r="0" b="20923"/>
          <a:stretch/>
        </p:blipFill>
        <p:spPr>
          <a:xfrm>
            <a:off x="384120" y="235080"/>
            <a:ext cx="687600" cy="542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81800" y="758880"/>
            <a:ext cx="117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URO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924360" y="13320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8284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0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36360" y="3068280"/>
            <a:ext cx="7380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rebuchet MS"/>
              </a:rPr>
              <a:t>14</a:t>
            </a:r>
            <a:r>
              <a:rPr b="1" lang="en-GB" sz="48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4800" spc="-1" strike="noStrike">
                <a:solidFill>
                  <a:srgbClr val="ffffff"/>
                </a:solidFill>
                <a:latin typeface="Trebuchet MS"/>
              </a:rPr>
              <a:t> April – 28</a:t>
            </a:r>
            <a:r>
              <a:rPr b="1" lang="en-GB" sz="48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4800" spc="-1" strike="noStrike">
                <a:solidFill>
                  <a:srgbClr val="ffffff"/>
                </a:solidFill>
                <a:latin typeface="Trebuchet MS"/>
              </a:rPr>
              <a:t> April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Oval 4"/>
          <p:cNvSpPr/>
          <p:nvPr/>
        </p:nvSpPr>
        <p:spPr>
          <a:xfrm>
            <a:off x="5003640" y="4221000"/>
            <a:ext cx="2881440" cy="151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From</a:t>
            </a:r>
            <a:r>
              <a:rPr b="1" lang="en-GB" sz="3200" spc="-1" strike="noStrike">
                <a:solidFill>
                  <a:srgbClr val="cc006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ff9933"/>
                </a:solidFill>
                <a:latin typeface="Trebuchet MS"/>
              </a:rPr>
              <a:t>contingency</a:t>
            </a:r>
            <a:r>
              <a:rPr b="1" lang="en-GB" sz="3200" spc="-1" strike="noStrike">
                <a:solidFill>
                  <a:srgbClr val="cc006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to</a:t>
            </a:r>
            <a:r>
              <a:rPr b="1" lang="en-GB" sz="3200" spc="-1" strike="noStrike">
                <a:solidFill>
                  <a:srgbClr val="cc0066"/>
                </a:solidFill>
                <a:latin typeface="Trebuchet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rebuchet MS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AG_201004140948"/>
          <p:cNvPicPr/>
          <p:nvPr/>
        </p:nvPicPr>
        <p:blipFill>
          <a:blip r:embed="rId1"/>
          <a:stretch/>
        </p:blipFill>
        <p:spPr>
          <a:xfrm>
            <a:off x="468360" y="1384200"/>
            <a:ext cx="7740720" cy="5473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0" y="33336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VAAC London - First Volcanic Ash Advisory - 14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 Apr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3171 L 0.34271 -0.28634 E">
                                      <p:cBhvr>
                                        <p:cTn id="1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33336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VAAC London - First Volcanic Ash Advisory - 14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rebuchet MS"/>
              </a:rPr>
              <a:t>th</a:t>
            </a: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 Apr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VAG_201004140948"/>
          <p:cNvPicPr/>
          <p:nvPr/>
        </p:nvPicPr>
        <p:blipFill>
          <a:blip r:embed="rId1"/>
          <a:stretch/>
        </p:blipFill>
        <p:spPr>
          <a:xfrm>
            <a:off x="6154560" y="1187280"/>
            <a:ext cx="2989440" cy="2114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08000" y="1413000"/>
            <a:ext cx="85629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CFMU activates its volcanic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ash</a:t>
            </a:r>
            <a:r>
              <a:rPr b="1" lang="en-GB" sz="3200" spc="-1" strike="noStrike">
                <a:solidFill>
                  <a:srgbClr val="ff9933"/>
                </a:solidFill>
                <a:latin typeface="Trebuchet MS"/>
              </a:rPr>
              <a:t> contingency </a:t>
            </a: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Early warning – issue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          </a:t>
            </a: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on volcanic ash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On request of national ATC providers : CFMU Applies meas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Facilitate information exchange – organise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tele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Europe enters an ash aviation</a:t>
            </a:r>
            <a:r>
              <a:rPr b="1" lang="en-GB" sz="3200" spc="-1" strike="noStrike">
                <a:solidFill>
                  <a:srgbClr val="ff9933"/>
                </a:solidFill>
                <a:latin typeface="Trebuchet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rebuchet MS"/>
              </a:rPr>
              <a:t>crisis</a:t>
            </a:r>
            <a:r>
              <a:rPr b="1" lang="en-GB" sz="3200" spc="-1" strike="noStrike">
                <a:solidFill>
                  <a:srgbClr val="ff9933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on Thursday 15 Ap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8"/>
          <p:cNvGraphicFramePr/>
          <p:nvPr/>
        </p:nvGraphicFramePr>
        <p:xfrm>
          <a:off x="-9360" y="-14400"/>
          <a:ext cx="784836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-14400"/>
                    <a:ext cx="784836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9"/>
          <p:cNvSpPr/>
          <p:nvPr/>
        </p:nvSpPr>
        <p:spPr>
          <a:xfrm>
            <a:off x="468360" y="549360"/>
            <a:ext cx="7128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6600"/>
                </a:solidFill>
                <a:latin typeface="Trebuchet MS"/>
              </a:rPr>
              <a:t>14</a:t>
            </a:r>
            <a:r>
              <a:rPr b="1" lang="en-GB" sz="4800" spc="-1" strike="noStrike" baseline="30000">
                <a:solidFill>
                  <a:srgbClr val="ff6600"/>
                </a:solidFill>
                <a:latin typeface="Trebuchet MS"/>
              </a:rPr>
              <a:t>th</a:t>
            </a:r>
            <a:r>
              <a:rPr b="1" lang="en-GB" sz="4800" spc="-1" strike="noStrike">
                <a:solidFill>
                  <a:srgbClr val="ff6600"/>
                </a:solidFill>
                <a:latin typeface="Trebuchet MS"/>
              </a:rPr>
              <a:t> April 2010 – 15: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-14400"/>
          <a:ext cx="7740720" cy="688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0"/>
                    <a:ext cx="7740720" cy="68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3"/>
          <p:cNvSpPr/>
          <p:nvPr/>
        </p:nvSpPr>
        <p:spPr>
          <a:xfrm>
            <a:off x="468360" y="549360"/>
            <a:ext cx="7128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rebuchet MS"/>
              </a:rPr>
              <a:t>18</a:t>
            </a:r>
            <a:r>
              <a:rPr b="1" lang="en-GB" sz="4800" spc="-1" strike="noStrike" baseline="30000">
                <a:solidFill>
                  <a:srgbClr val="ff0000"/>
                </a:solidFill>
                <a:latin typeface="Trebuchet MS"/>
              </a:rPr>
              <a:t>th</a:t>
            </a:r>
            <a:r>
              <a:rPr b="1" lang="en-GB" sz="4800" spc="-1" strike="noStrike">
                <a:solidFill>
                  <a:srgbClr val="ff0000"/>
                </a:solidFill>
                <a:latin typeface="Trebuchet MS"/>
              </a:rPr>
              <a:t> April 2010 – 15: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189000"/>
            <a:ext cx="90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Impact on the European traffic 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Trebuchet MS"/>
              </a:rPr>
              <a:t>15 April – 21 Apri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4" descr=""/>
          <p:cNvPicPr/>
          <p:nvPr/>
        </p:nvPicPr>
        <p:blipFill>
          <a:blip r:embed="rId1"/>
          <a:stretch/>
        </p:blipFill>
        <p:spPr>
          <a:xfrm>
            <a:off x="0" y="2205000"/>
            <a:ext cx="4392720" cy="2951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4"/>
          <p:cNvSpPr/>
          <p:nvPr/>
        </p:nvSpPr>
        <p:spPr>
          <a:xfrm>
            <a:off x="4462560" y="2637000"/>
            <a:ext cx="46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54% of flights not op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More than 100,000 f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1% of annual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744480" y="1042920"/>
            <a:ext cx="7345440" cy="4407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108000" y="192240"/>
            <a:ext cx="90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Impact on Airports (traffic)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rebuchet MS"/>
              </a:rPr>
              <a:t> 15 April – 21 Apr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47520" y="53611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 the area directly affected by the ash – 70%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Outside of the area directly affected by the ash –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3%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5:13:31Z</dcterms:created>
  <dc:creator>nuhaana</dc:creator>
  <dc:description/>
  <dc:language>en-US</dc:language>
  <cp:lastModifiedBy>jeff braun</cp:lastModifiedBy>
  <cp:lastPrinted>2004-03-25T07:47:40Z</cp:lastPrinted>
  <dcterms:modified xsi:type="dcterms:W3CDTF">2010-09-03T18:11:43Z</dcterms:modified>
  <cp:revision>301</cp:revision>
  <dc:subject/>
  <dc:title>EUROCONTROL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genda Item">
    <vt:lpwstr/>
  </property>
  <property fmtid="{D5CDD505-2E9C-101B-9397-08002B2CF9AE}" pid="3" name="ContentType">
    <vt:lpwstr>Document</vt:lpwstr>
  </property>
  <property fmtid="{D5CDD505-2E9C-101B-9397-08002B2CF9AE}" pid="4" name="Document Type">
    <vt:lpwstr>Presentation</vt:lpwstr>
  </property>
  <property fmtid="{D5CDD505-2E9C-101B-9397-08002B2CF9AE}" pid="5" name="Meeting">
    <vt:lpwstr>IVATF-1</vt:lpwstr>
  </property>
  <property fmtid="{D5CDD505-2E9C-101B-9397-08002B2CF9AE}" pid="6" name="Number">
    <vt:lpwstr/>
  </property>
  <property fmtid="{D5CDD505-2E9C-101B-9397-08002B2CF9AE}" pid="7" name="Presented by">
    <vt:lpwstr>EUROCONTROL</vt:lpwstr>
  </property>
  <property fmtid="{D5CDD505-2E9C-101B-9397-08002B2CF9AE}" pid="8" name="PublishingExpirationDate">
    <vt:lpwstr/>
  </property>
  <property fmtid="{D5CDD505-2E9C-101B-9397-08002B2CF9AE}" pid="9" name="PublishingStartDate">
    <vt:lpwstr/>
  </property>
</Properties>
</file>